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13525"/>
        <c:axId val="5226056"/>
      </c:barChart>
      <c:catAx>
        <c:axId val="22713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6056"/>
        <c:crosses val="autoZero"/>
        <c:auto val="1"/>
        <c:lblAlgn val="ctr"/>
        <c:lblOffset val="100"/>
        <c:noMultiLvlLbl val="0"/>
      </c:catAx>
      <c:valAx>
        <c:axId val="5226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3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BB8-A04D-4932-B53C-D65D1F85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E95-F49D-4BDC-AF8F-B62A9BB5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CB0-EB42-42BF-B7E5-12F8BC3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32D-9913-4B30-92E9-A526C0C2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3FB-BA2A-4592-896C-B27B63E6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B59-0EAE-43A2-B439-E4FBAEA5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931-B71C-4F2D-9AF2-B49B33B7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244-1616-45FD-83BE-3299432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ADC-3410-4BB4-9C4D-8513A91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4D8-21ED-481A-9485-4C3A57A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B4B-3141-4208-8754-BCA1E70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45A-A0E6-4D62-9B4A-9DAFF89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E8ED2-B640-4D0C-ABB0-3FEC1B34A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