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65789"/>
        <c:axId val="17848706"/>
      </c:barChart>
      <c:catAx>
        <c:axId val="48865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48706"/>
        <c:crosses val="autoZero"/>
        <c:auto val="1"/>
        <c:lblAlgn val="ctr"/>
        <c:lblOffset val="100"/>
        <c:noMultiLvlLbl val="0"/>
      </c:catAx>
      <c:valAx>
        <c:axId val="17848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65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094-256C-4C9E-88D0-50E0A9B9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F88-477F-4BCB-A972-244BD76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EE2-EA6D-4BFD-B70C-B1E8B4F0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F23-8376-406D-A4FA-AA3AE79A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C5F-7061-4E0D-976C-E17DD845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A6B-A6C7-499B-9657-ABA3713D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EC1-28A0-4C03-8E1D-FEEADD25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A05-08EE-4F95-8C91-4A5A0D05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094-956A-4B12-B54D-C53E6AEA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617-B77A-429A-801C-6706585C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F66-21CE-4E04-96A4-61151A15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CFD-90D4-4550-A123-A83960B3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853A8-B51C-4AA7-8596-0DA071915F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